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5B2-AE24-4D0B-B7BC-871E230F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8D1-2C92-4F38-AD40-4AE679E8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16A-2456-4EDC-9C9B-61ED025C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686-5E68-40A8-9365-5E559F10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58B-3848-4E95-BE2E-D3839FD1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60D-67F7-4E3B-951E-B4B47844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E94-7B7F-4D0C-A26A-A8D72B4B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DDA-CC03-4D62-A057-513C0BE8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EE47-C7D5-4C7A-BC69-BB6D0451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C56-721E-44EE-BF8D-B1C41B4C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376-E7BD-4DD0-8D41-FCBB9678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05F-224E-4761-A1B3-5EA9BDE1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8A9B-3C38-49F6-83C0-1C6EE0893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etr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(amount of stuff)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867280" y="19051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ese are our BASE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 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eters are in 1k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picograms are there in 1 g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cm are there in 2 k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km are there in a G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watts are in 2.21 Gigawat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19720" y="1219320"/>
          <a:ext cx="4419360" cy="5105160"/>
        </p:xfrm>
        <a:graphic>
          <a:graphicData uri="http://schemas.openxmlformats.org/drawingml/2006/table">
            <a:tbl>
              <a:tblPr/>
              <a:tblGrid>
                <a:gridCol w="831600"/>
                <a:gridCol w="785880"/>
                <a:gridCol w="622440"/>
                <a:gridCol w="2179440"/>
              </a:tblGrid>
              <a:tr h="42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ga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 000 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ga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 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lo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cto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ka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er, Liter or Me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i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li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(m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 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no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 000 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co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 000 000 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Lab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$3.75 to nick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there are 20 nickels in every dol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1600200" y="3962520"/>
                <a:ext cx="564048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ickels</m:t>
                            </m:r>
                          </m:num>
                          <m:den>
                            <m:r>
                              <m:t xml:space="preserve">$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nickel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.5 kg to 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32m to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45cm to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mm to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Mg to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Tough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02 km/s to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75kg/ml to g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.2m/s to mm/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21:51:56Z</dcterms:created>
  <dc:creator>Fio Babaganouch</dc:creator>
  <dc:description/>
  <dc:language>en-US</dc:language>
  <cp:lastModifiedBy>"%username%"</cp:lastModifiedBy>
  <dcterms:modified xsi:type="dcterms:W3CDTF">2014-09-02T13:10:50Z</dcterms:modified>
  <cp:revision>6</cp:revision>
  <dc:subject/>
  <dc:title>The Metric System</dc:title>
</cp:coreProperties>
</file>